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5CE9-1537-4587-9CD8-67C0EDC86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3831-C25F-440E-87C1-FCB8EB02D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D37E-1A24-4459-8FA5-E15FA04CD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0EFC-8D8B-433C-85D2-CF7590EAD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D1B4A-D5EC-4C1C-B6C2-DDF6D097F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A5645-924D-48CA-84DE-363C6E27B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B05F0-D456-445A-A2D9-758C6DF8D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CBAE7-9498-4A88-8592-F1626F2F9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E6CFB-733F-4CED-AC77-AE0493EFD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51975-898D-477A-B7FE-E11FE12DD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73D44-F367-4A4C-AA6A-849112CE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97DC-1F0F-45CF-BABC-BB9C2772B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DF7C3-D131-4A37-AFD3-821832538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56133-F7E8-47B9-BA90-36DB588BA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77E66-7766-46B0-B7DA-F653425CB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0945A-965D-4FA3-A9A6-068BE1F1C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79526-8B16-46FB-AF71-A3CE4A3F9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27B9-F86E-4C43-90EB-3A37E0519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96AB-8728-4897-9D0F-7DB348D3C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47AC-47D1-43B9-8FF6-5F10A8ACD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B4CD-0E61-45C4-9FE9-7B328E341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F769-1957-4CA0-8AF1-D5BEA02BB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C27D-2E3C-4D6F-8DA1-4EE3E27F8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A4EC-7265-4273-A503-83F8713F2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93C99-A754-4A83-8E43-8C18659CC8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C352D-7965-44BB-8A20-D0E141A536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husk-cbc.eu/3rdcallforproposals" TargetMode="External"/><Relationship Id="rId3" Type="http://schemas.openxmlformats.org/officeDocument/2006/relationships/hyperlink" Target="http://www.husk-cbc.eu/3rdcallforproposals" TargetMode="External"/><Relationship Id="rId4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DaxlinePro-Regular"/>
              </a:rPr>
              <a:t>Magyarország-Szlovákia Határon Átnyúló Együttműködési Program 2007-2013</a:t>
            </a:r>
            <a:br>
              <a:rPr sz="2800"/>
            </a:br>
            <a:br>
              <a:rPr sz="2800"/>
            </a:br>
            <a:r>
              <a:rPr b="1" lang="en-US" sz="3200" spc="-1" strike="noStrike">
                <a:solidFill>
                  <a:srgbClr val="336600"/>
                </a:solidFill>
                <a:latin typeface="DaxlinePro-Regular"/>
              </a:rPr>
              <a:t>INFO NAP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36600"/>
                </a:solidFill>
                <a:latin typeface="DaxlinePro-Regular"/>
              </a:rPr>
              <a:t>3. pályázati felhív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DaxlinePro-Regular"/>
              </a:rPr>
              <a:t>2011.01.26. Győ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6588000" y="558972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DaxlinePro-Regular"/>
              </a:rPr>
              <a:t>Biriki Arian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43280" y="-360"/>
            <a:ext cx="63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DaxlinePro-Regular"/>
              </a:rPr>
              <a:t>A pályázatok benyújtásának módja, hely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1280" y="2781360"/>
            <a:ext cx="8229600" cy="295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HU-SK CBC Program Közös Szakmai Titkárság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VÁTI Nonprofit Kf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Gellérthegy u. 30-32.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H-1016 Budapest, Magyarorszá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Pályázati felhívás hivatkozási száma: HUSK/10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1341360"/>
            <a:ext cx="822960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DaxlinePro-Regular"/>
              </a:rPr>
              <a:t>IMIR 2007-2013 Front Office Application Mo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00ff"/>
                </a:solidFill>
                <a:uFillTx/>
                <a:latin typeface="DaxlinePro-Regular"/>
                <a:hlinkClick r:id="rId2"/>
              </a:rPr>
              <a:t>http</a:t>
            </a:r>
            <a:r>
              <a:rPr b="0" lang="hu-HU" sz="2800" spc="-1" strike="noStrike" u="sng">
                <a:solidFill>
                  <a:srgbClr val="0000ff"/>
                </a:solidFill>
                <a:uFillTx/>
                <a:latin typeface="DaxlinePro-Regular"/>
                <a:hlinkClick r:id="rId3"/>
              </a:rPr>
              <a:t>://www.husk-cbc.eu/3rdcallforpropos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DaxlinePro-Regular"/>
              </a:rPr>
              <a:t>Elvárásain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1. </a:t>
            </a: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Forma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egy Vezető Partner és egy Határon Túli Part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2. </a:t>
            </a: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Szakma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innovatív projekt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esélyegyenlőségi feltételek teljesítése (min. 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fenntartható fejlődés feltételeinek teljesítése (min. 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vezető partner el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Előfeltétel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reális, fenntartható partnerség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kölcsönös bizal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megfelelő kommunikáci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Font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A jóváhagyott projekt </a:t>
            </a:r>
            <a:r>
              <a:rPr b="1" lang="hu-HU" sz="2000" spc="-1" strike="noStrike">
                <a:solidFill>
                  <a:srgbClr val="cc0000"/>
                </a:solidFill>
                <a:latin typeface="DaxlinePro-Regular"/>
              </a:rPr>
              <a:t>előkészítési költségei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 nem haladhatják meg </a:t>
            </a:r>
            <a:r>
              <a:rPr b="0" i="1" lang="hu-HU" sz="2000" spc="-1" strike="noStrike">
                <a:solidFill>
                  <a:srgbClr val="cc0000"/>
                </a:solidFill>
                <a:latin typeface="DaxlinePro-Regular"/>
              </a:rPr>
              <a:t>projekt partnerenként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 a teljes elszámolható költség </a:t>
            </a:r>
            <a:r>
              <a:rPr b="0" lang="hu-HU" sz="2000" spc="-1" strike="noStrike">
                <a:solidFill>
                  <a:srgbClr val="cc0000"/>
                </a:solidFill>
                <a:latin typeface="DaxlinePro-Regular"/>
              </a:rPr>
              <a:t>10%-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át (megval.tan, tervdok., engedélyezés, közbesz., fordítás, KHV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a </a:t>
            </a:r>
            <a:r>
              <a:rPr b="1" lang="hu-HU" sz="2000" spc="-1" strike="noStrike">
                <a:solidFill>
                  <a:srgbClr val="cc0000"/>
                </a:solidFill>
                <a:latin typeface="DaxlinePro-Regular"/>
              </a:rPr>
              <a:t>jogosult területen kívül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 megvalósítandó </a:t>
            </a:r>
            <a:r>
              <a:rPr b="1" lang="hu-HU" sz="2000" spc="-1" strike="noStrike">
                <a:solidFill>
                  <a:srgbClr val="cc0000"/>
                </a:solidFill>
                <a:latin typeface="DaxlinePro-Regular"/>
              </a:rPr>
              <a:t>tevékenységek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 </a:t>
            </a:r>
            <a:r>
              <a:rPr b="0" lang="hu-HU" sz="2000" spc="-1" strike="noStrike">
                <a:solidFill>
                  <a:srgbClr val="cc0000"/>
                </a:solidFill>
                <a:latin typeface="DaxlinePro-Regular"/>
              </a:rPr>
              <a:t>költsége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 nem haladhatja meg a projekt elszámolható összköltségének </a:t>
            </a:r>
            <a:r>
              <a:rPr b="0" lang="hu-HU" sz="2000" spc="-1" strike="noStrike">
                <a:solidFill>
                  <a:srgbClr val="cc0000"/>
                </a:solidFill>
                <a:latin typeface="DaxlinePro-Regular"/>
              </a:rPr>
              <a:t>10%-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á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A megvásárolt föld csak akkor szerepelhet az elszámolható költségek között, ha nem haladja meg a </a:t>
            </a:r>
            <a:r>
              <a:rPr b="0" lang="hu-HU" sz="2000" spc="-1" strike="noStrike">
                <a:solidFill>
                  <a:srgbClr val="cc0000"/>
                </a:solidFill>
                <a:latin typeface="DaxlinePro-Regular"/>
              </a:rPr>
              <a:t>teljes elszámolható költségek 10%-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á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A </a:t>
            </a:r>
            <a:r>
              <a:rPr b="1" lang="hu-HU" sz="2000" spc="-1" strike="noStrike">
                <a:solidFill>
                  <a:srgbClr val="cc0000"/>
                </a:solidFill>
                <a:latin typeface="DaxlinePro-Regular"/>
              </a:rPr>
              <a:t>rezsiköltségek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 nem haladhatják meg projektenként a </a:t>
            </a:r>
            <a:r>
              <a:rPr b="0" lang="hu-HU" sz="2000" spc="-1" strike="noStrike">
                <a:solidFill>
                  <a:srgbClr val="cc0000"/>
                </a:solidFill>
                <a:latin typeface="DaxlinePro-Regular"/>
              </a:rPr>
              <a:t>személyi jellegű ráfordítások 25%-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á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Melléklet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DaxlinePro-Regular"/>
              </a:rPr>
              <a:t>A </a:t>
            </a:r>
            <a:r>
              <a:rPr b="1" lang="hu-HU" sz="1800" spc="-1" strike="noStrike">
                <a:solidFill>
                  <a:srgbClr val="cc0000"/>
                </a:solidFill>
                <a:latin typeface="DaxlinePro-Regular"/>
              </a:rPr>
              <a:t>nyomtatva, lepecsételve és aláírva</a:t>
            </a:r>
            <a:r>
              <a:rPr b="1" lang="hu-HU" sz="1800" spc="-1" strike="noStrike">
                <a:solidFill>
                  <a:srgbClr val="000000"/>
                </a:solidFill>
                <a:latin typeface="DaxlinePro-Regular"/>
              </a:rPr>
              <a:t> beküldendő dokumentumok a következők: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cc0000"/>
                </a:solidFill>
                <a:latin typeface="DaxlinePro-Regular"/>
              </a:rPr>
              <a:t>Vezető Partner nyilatkozat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 (a nyomtatvány elérhető magyar VP-nek magyarul, szlovák VP-nek szlovákul) - nyomtatva, törvényes képviselő által aláírva és lepecsételv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cc0000"/>
                </a:solidFill>
                <a:latin typeface="DaxlinePro-Regular"/>
              </a:rPr>
              <a:t>Partnerségi nyilatkozat</a:t>
            </a:r>
            <a:r>
              <a:rPr b="0" lang="sk-SK" sz="1600" spc="-1" strike="noStrike">
                <a:solidFill>
                  <a:srgbClr val="000000"/>
                </a:solidFill>
                <a:latin typeface="DaxlinePro-Regular"/>
              </a:rPr>
              <a:t> (az összes támogatásban részesülő partner törvényes képviselője által aláírva) - 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nyomtatva, törvényes képviselő által aláírva és lepecsételv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DaxlinePro-Regular"/>
              </a:rPr>
              <a:t>A </a:t>
            </a:r>
            <a:r>
              <a:rPr b="1" lang="hu-HU" sz="1800" spc="-1" strike="noStrike">
                <a:solidFill>
                  <a:srgbClr val="cc0000"/>
                </a:solidFill>
                <a:latin typeface="DaxlinePro-Regular"/>
              </a:rPr>
              <a:t>nyomtatva</a:t>
            </a:r>
            <a:r>
              <a:rPr b="1" lang="hu-HU" sz="1800" spc="-1" strike="noStrike">
                <a:solidFill>
                  <a:srgbClr val="000000"/>
                </a:solidFill>
                <a:latin typeface="DaxlinePro-Regular"/>
              </a:rPr>
              <a:t> beküldendő dokumentumok a következők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DaxlinePro-Regular"/>
              </a:rPr>
              <a:t>1. melléklet - 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Amennyiben a partnerek az együttműködési kritériumok közül a </a:t>
            </a:r>
            <a:r>
              <a:rPr b="0" lang="hu-HU" sz="1600" spc="-1" strike="noStrike">
                <a:solidFill>
                  <a:srgbClr val="cc0000"/>
                </a:solidFill>
                <a:latin typeface="DaxlinePro-Regular"/>
              </a:rPr>
              <a:t>„Közös fejlesztés”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 feltételét választják, a megfelelőség igazolására szükséges az előkészítő tárgyalásokra szóló meghívók, jelenléti ívek, valamint a megbeszélések során készült jegyzőkönyvek pályázathoz való csatolás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2. melléklet - A projekt </a:t>
            </a:r>
            <a:r>
              <a:rPr b="0" lang="hu-HU" sz="1600" spc="-1" strike="noStrike">
                <a:solidFill>
                  <a:srgbClr val="cc0000"/>
                </a:solidFill>
                <a:latin typeface="DaxlinePro-Regular"/>
              </a:rPr>
              <a:t>fenntarthatóságát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 biztosító intézkedések (a formátum adott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3. melléklet - Az </a:t>
            </a:r>
            <a:r>
              <a:rPr b="0" lang="hu-HU" sz="1600" spc="-1" strike="noStrike">
                <a:solidFill>
                  <a:srgbClr val="cc0000"/>
                </a:solidFill>
                <a:latin typeface="DaxlinePro-Regular"/>
              </a:rPr>
              <a:t>esélyegyenlőséget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 biztosító intézkedések (a formátum adott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Melléklet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alibri"/>
              </a:rPr>
              <a:t>Beruházási projektek esetében (ahol a 6. költségvetési soron “Építés/Investície” költséget kívánnak elszámoln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4. melléklet - </a:t>
            </a:r>
            <a:r>
              <a:rPr b="0" lang="hu-HU" sz="1800" spc="-1" strike="noStrike">
                <a:solidFill>
                  <a:srgbClr val="cc0000"/>
                </a:solidFill>
                <a:latin typeface="Calibri"/>
              </a:rPr>
              <a:t>Megvalósíthatósági tanulmány</a:t>
            </a: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 költség-haszon számítással (CB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5. melléklet -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Engedélyezési tervdokumentáció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(csak másola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6. melléklet -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A beruházással érintett helyszín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fényképdokumentációja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papíron (60 napnál nem régebbi állapotot ábrázoló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7. melléklet – Eredeti vagy hitelesített </a:t>
            </a:r>
            <a:r>
              <a:rPr b="0" lang="hu-HU" sz="1800" spc="-1" strike="noStrike">
                <a:solidFill>
                  <a:srgbClr val="cc0000"/>
                </a:solidFill>
                <a:latin typeface="Calibri"/>
              </a:rPr>
              <a:t>k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örnyezeti hatásvizsgálat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(EIA), amennyiben a nemzeti jogszabályok előírják. Amennyiben nem írják elő, úgy egy eredeti (aláírt, lepecsételt) nyilatkozat csatolása szükséges errő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8. melléklet -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A területileg illetékes Nemzeti Park eredeti vagy hitelesített elvi hozzájárulása a projekthez (azaz a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Nemzeti Park Igazgatósága által írt hivatalos levél vagy nyilatkozat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becsatolása szükséges). Amennyiben a projekt partnerek tevékenységei nem érintenek védett és/vagy NATURA 2000 területet, akkor elegendő a támogatásban részesülő Partnerek eredeti (aláírt, lepecsételt) nyilatkozata, amely szerint a partnerek projekt tevékenységei nem érintenek védett és/vagy NATURA 2000 területet, és nem lesznek negatív hatással az adott terület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Folyamatáb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/>
          <p:nvPr/>
        </p:nvSpPr>
        <p:spPr>
          <a:xfrm>
            <a:off x="2827440" y="1600200"/>
            <a:ext cx="1257120" cy="57168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ályázó, a KSZT és a RIP támogatásáv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827440" y="3200400"/>
            <a:ext cx="1257120" cy="34308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SZT és RI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27440" y="4343400"/>
            <a:ext cx="1257120" cy="45720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SZT és/vagy külső szakértő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27440" y="5029200"/>
            <a:ext cx="1257120" cy="34308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M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56240" y="1714680"/>
            <a:ext cx="274320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 pályázat kidolgozá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43280" y="2924280"/>
            <a:ext cx="205740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ályázat benyújtása/befogadá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3280" y="3573360"/>
            <a:ext cx="205740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Formai és jogosultsági ellenőrzé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236000" y="2637000"/>
            <a:ext cx="93636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iánypótlás (az értékelési táblában rögzített, előre meghatározott esetekbe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27760" y="3314880"/>
            <a:ext cx="80028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7628040" y="308592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7628040" y="1942920"/>
            <a:ext cx="144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7399080" y="1943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27840" y="2171880"/>
            <a:ext cx="1208160" cy="46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ályázat ismételt benyújtása, Vezető Partn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599160" y="2057400"/>
            <a:ext cx="1800" cy="114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599160" y="2514600"/>
            <a:ext cx="1800" cy="114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884840" y="2171880"/>
            <a:ext cx="1055520" cy="46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ályázat benyújtása, Vezető Partn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42040" y="2514600"/>
            <a:ext cx="1440" cy="114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42040" y="205740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56240" y="4457880"/>
            <a:ext cx="274320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ályázatok szakmai értékelé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41760" y="26290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41760" y="411480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27760" y="2629080"/>
            <a:ext cx="0" cy="1485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41760" y="2652840"/>
            <a:ext cx="0" cy="1485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27840" y="4114800"/>
            <a:ext cx="144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56240" y="5029200"/>
            <a:ext cx="274320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 pályázatok kiválasztása, támogatási dönté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27840" y="4800600"/>
            <a:ext cx="1440" cy="2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Ami segít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ályázati felhívással kapcsolatos minden információ és dokumentum megtalálható a honlapunkon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cc0000"/>
                </a:solidFill>
                <a:latin typeface="DaxlinePro-Regular"/>
              </a:rPr>
              <a:t>www.husk-cbc.e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felhívá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útmutat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formanyomtatvány és melléklete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formanyomtatvány kitöltési útmutató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Útmutató a költségek elszámolhatóságáho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Értékelő táblázato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Megvalósíthatósági tanulmány szerkezet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öszönöm a figyelme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riki Arian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-SK J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Általános információ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A pályázati felhívás érvényessége </a:t>
            </a:r>
            <a:r>
              <a:rPr b="1" lang="hu-HU" sz="3200" spc="-1" strike="noStrike">
                <a:solidFill>
                  <a:srgbClr val="cc0000"/>
                </a:solidFill>
                <a:latin typeface="DaxlinePro-Regular"/>
              </a:rPr>
              <a:t>2010.12.01 - 2011.02.28.</a:t>
            </a:r>
            <a:br>
              <a:rPr sz="3200"/>
            </a:br>
            <a:r>
              <a:rPr b="1" lang="hu-HU" sz="3200" spc="-1" strike="noStrike">
                <a:solidFill>
                  <a:srgbClr val="cc0000"/>
                </a:solidFill>
                <a:latin typeface="DaxlinePro-Regula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ERFA: 10 365 801 EUR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A projektek időtartama max. 24 hó leh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1.1.2 Üzleti együttműködések elősegítése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1 936 941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 25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1 0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1.1 Vízgazdálkodás (árvíz- és belvízvédelem)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5 0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5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2 5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1.2 Tanulmányok, tervek és képzések (Vízgazdálkodás, árvíz- és belvízvédele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720 593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2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4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5.1 Szélessávú internet kiépíté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 208 267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2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1 0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5.2 Közösségi csatlakozási programok, média; az információáramlás elősegíté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5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1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 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25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axlinePro-Regular"/>
              </a:rPr>
              <a:t>Részletes információkat az intézkedésekrő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DaxlinePro-Regular"/>
              </a:rPr>
              <a:t>Pályázati útmutató 1.3 fejezetéb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axlinePro-Regular"/>
              </a:rPr>
              <a:t>olvashatnak.</a:t>
            </a:r>
            <a:r>
              <a:rPr b="1" lang="en-US" sz="32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DaxlinePro-Regular"/>
              </a:rPr>
              <a:t>Beadási határidő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A pályázatot és a mellékleteket </a:t>
            </a: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angolul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kell benyújtani </a:t>
            </a:r>
            <a:r>
              <a:rPr b="0" lang="en-US" sz="1600" spc="-1" strike="noStrike">
                <a:solidFill>
                  <a:srgbClr val="000000"/>
                </a:solidFill>
                <a:latin typeface="DaxlinePro-Regular"/>
              </a:rPr>
              <a:t>(kivéve a VP nyilatkozat – nemzeti nyelv, az IMIR 2007-2013 generálj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az </a:t>
            </a: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IMIR 2007-2013 Front Office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rendszeren keresztül elektronikus formába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2011. február 28-ig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(a rendszer 2011.01.03. óta nyitva ál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A mellékletek és nyomtatványok </a:t>
            </a:r>
            <a:r>
              <a:rPr b="0" lang="en-US" sz="2000" spc="-1" strike="noStrike">
                <a:solidFill>
                  <a:srgbClr val="cc0000"/>
                </a:solidFill>
                <a:latin typeface="DaxlinePro-Regular"/>
              </a:rPr>
              <a:t>postára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adási határidej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2011. március 4. 23.5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Személyesen/meghatalmazott által </a:t>
            </a: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2011. március 4. 12.00-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3:09:21Z</dcterms:created>
  <dc:creator>birikiarianna</dc:creator>
  <dc:description/>
  <dc:language>en-US</dc:language>
  <cp:lastModifiedBy>birikiarianna</cp:lastModifiedBy>
  <dcterms:modified xsi:type="dcterms:W3CDTF">2011-01-25T16:19:38Z</dcterms:modified>
  <cp:revision>52</cp:revision>
  <dc:subject/>
  <dc:title>Info nap 3. pályázati felhívás</dc:title>
</cp:coreProperties>
</file>